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40A8-57FC-4954-ABA9-C4CFA2858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7396-4B18-42EB-A37D-EA757C87D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8423-87E7-4986-9D99-3FD8CADB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C92-7424-46A2-8B7D-4343AD07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E45-F75F-43FE-BB23-8B07FC14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CA62-063F-4C97-9353-68BD2C7A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3924-C01A-4868-A1BE-3C1F14A7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6C5-D355-48B6-B0AE-2BCBDAD7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9927-1F84-4265-A03D-C02D90EC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DCC-5FAD-4522-9680-235BC042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96AB-18FC-46F5-A33B-EC40EC0C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2A06-D84C-458E-9EB3-0EC1D546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463-9A53-4966-B9D9-8A37239D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4DC-8D3B-4B3B-8BE9-7007F801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B827-54B7-4005-8E15-3030B94EF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rke County School Distr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914400" y="54100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ed from “Discovering An Organization’s Culture” by Dr. Wally Schmidt, Rollins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ity -- the organization’s emphasis on quality and 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Employees are encouraged to be cre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 New ideas are encoura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 Most employees are bright and capable of quality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  Innovation and change are encoura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.  Divisions/departments provide exciting challenges and opportunities for grow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ed in 06: Neu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s are encouraged to be creative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7.5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deas are encourag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2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employees are bright and capable of quality work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on and change are encourag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7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.  Divisions/departments provide exciting challenges and opportunities for growth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7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work -- the ability to work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Competition among employees and between departments is discoura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 Groups work well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 Employees help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  Supervisors cooperate with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.  Competition among employees is handled fairly and constructiv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work -- the ability to work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on among employees and between departments is discourag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9.2 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 work well together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0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s help each other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2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 cooperate with one another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0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  Competition among employees is handled fairly and constructively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1.6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zing Chang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actors that have mad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account for the amazing chang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ve Areas to Exa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-- how the system is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 -- who is involved and how effective are thei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-- the degree of commitment among leaders, employees, and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vity -- the organization’s emphasis on quality and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work -- the ability to wor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= 1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 = 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= 2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vity = 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work =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-1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3 Neu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5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 -- how the system is organiz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Lines of responsibility are clear and easy to underst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 Jobs and services are clearly def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 The services and divisions/departments of the company are organized effectiv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  Task scheduling is well organ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  Procedures, services, and systems are well organ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ed in 06: Negative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s of responsibility are clear and easy to understan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5% -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s and services are clearly defin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0% True / 50%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rvices and divisions/departments of the company are organized effectively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3.7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scheduling is well organiz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0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.  Procedures, services, and systems are well organiz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1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Making -- who is involved and how effective are their cho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Employees can influence decisions that affec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 The administration makes effectiv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 Information is readily available to help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  Decisions are made in a timely fash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 Grievances and problems are well hand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Mak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ed in 06: Low Neutr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s can influence decisions that affect them.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2.1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dministration makes effective decisions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2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is readily available to help make decisions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1.8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are made in a timely fashion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2.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.  Grievances and problems are well handl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6.3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-- the degree of commitment among leaders, employees, and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Supervisors, employees, and staff are interested in thei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 Supervisors are excited about their jobs and encourage employee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 Employees are committed to excell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.  Supervisors are committed to excell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.  The administrators and supervisors encourage an environment in which employees want to succ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ed in 06: Neu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, employees, and staff are interested in their work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7.5 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 are excited about their jobs and encourage employee development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2.1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s are committed to excellence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7.2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 are committed to excellence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5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  The administrators and supervisors encourage an environment in which employees want to succeed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0%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19:21:04Z</dcterms:created>
  <dc:creator>Randall Dobbs User</dc:creator>
  <dc:description/>
  <dc:language>en-US</dc:language>
  <cp:lastModifiedBy>Randall Dobbs User</cp:lastModifiedBy>
  <dcterms:modified xsi:type="dcterms:W3CDTF">2009-09-10T13:25:17Z</dcterms:modified>
  <cp:revision>9</cp:revision>
  <dc:subject/>
  <dc:title>Clarke County School District</dc:title>
</cp:coreProperties>
</file>